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99F-C4AB-44DD-B6D3-61E70D7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AE3-DCA8-4C99-8207-0F6D5E3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165-91BA-49CE-A1F6-F02E8CCB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C2E-C847-47DA-8441-EBDC82B8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F6E6-B29D-4276-8902-E2B5256A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BCD1-EDCC-461F-BB71-3455052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F0E7-2109-41D8-B8D5-07ED9F5F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681-5A86-48BE-8D5F-9E1A523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24E-75E2-42FE-9BEA-40F59CA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72F5-DD47-44EA-82CC-FCB89E5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B71-9398-4B38-8922-6B97274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41A-15D1-4B5A-AF6F-833D61F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D55-836C-429A-884E-8E548E1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4A71-747A-4412-8424-2713810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E2E-1413-442D-9236-9968E91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3D4E-223D-45DB-B45E-3B200435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5F1-ACB1-4583-BAC6-8C9EB744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4F99-61C7-44BC-8D1E-6EBDD8A6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162F-DAC1-4036-80DA-6F13FB18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3781-9EDF-4084-A951-E72ED615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693F-74A0-4993-8D56-FB4A675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9C19-7321-451B-BB5B-18A2143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B84-BC64-4940-8ED2-F87376EE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3F0C-74E1-454C-B8E6-D5B3916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8FD0-C116-44BF-8540-5910463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C146-7B04-4634-8D73-26240CD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D0F3-58B3-42CE-AFD8-20B52EC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E904-C7EB-48E0-80F1-61BDE92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48C9-936C-43EA-8DE5-547BF12C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9428-2A92-46EE-8172-25D5BA86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6F6F-3490-47F9-A081-1C13787F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1400-7867-4486-B307-7FB9982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E719-B42C-4691-BE12-9878BD3F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D39-51CB-4C43-910B-ACADAE16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5038-547D-491F-90ED-CDA27D0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D914-C81B-4028-9A1B-2893896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BAB8-BA64-4D99-9A5C-7F6E46F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9FD1-526B-432C-9E7C-78E16B2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24A0-D958-4D24-9868-21C9FF7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BA8F-DAB0-4485-A2BD-F285BCD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CF7B-A936-416A-9360-FF679568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B8A5-FD62-4D8D-8AA0-AABD91B0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263C-CD36-4AFA-9427-E287F878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50E-DBF6-476B-8E10-8AD6C64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387-19C0-473D-877C-45CDDA7C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DBF-FAED-408A-8BDB-BF2C75D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BC6-582C-4112-AE58-5B50223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AC9-9FD8-4258-89F0-C0B887F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E67-8FCC-41EE-A018-2B874E0A82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8BF-7406-4C25-B7F7-E86C8CBC02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C7D-35AC-4BC4-914A-A17A3FD422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78DD-FE0B-46F6-8A45-B7026C01AE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55600" y="1158840"/>
            <a:ext cx="8613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5" descr=""/>
          <p:cNvPicPr/>
          <p:nvPr/>
        </p:nvPicPr>
        <p:blipFill>
          <a:blip r:embed="rId1"/>
          <a:stretch/>
        </p:blipFill>
        <p:spPr>
          <a:xfrm>
            <a:off x="122400" y="755640"/>
            <a:ext cx="8808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 by Conference Call Aug 2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 states particip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asked EPA to assign a representa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enda for the ca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ewed status of proposed 2013 standards re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issues for upcoming 2015 standards revi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use of $40,000 earmarked for nutrients criteria develop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otential Issues for 2015 PCS Review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93464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tal mercury water quality criter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12 ng/L the correct numbe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uld it be “never to be exceeded” or average over ti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mixing zone prohibition appropriate for Ohio Riv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teria cri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SANCO adopted EPA’s original proposal – 90 day geo me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A adopted more stringent crite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SANCO’s criteria less stringent than all states so not applicable for 305b or permitt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015 Potential Issu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erature for aquatic life prot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ter-time criteria were revised in 201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ertime criteria were not revised due to last minute comment regarding inaccurate data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uld revisit summertime crite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was an agreement that the TDS criterion should be revisited after completion of the TDS repor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o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Users Advisory Committee requested Br criterion be investiga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015 Potential Issu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monia for Aquatic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A has new national recommended criter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dmium &amp; Seleni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hio working on cadmium crite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Y working on selenium crite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velopment of Numeric Nutrient Criter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240" y="1934640"/>
            <a:ext cx="838188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ived $40,000 WV SEP fun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rgeted for use in Ohio River nutrient criteria develop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ne expert panel to review ORSANCO data and analyses, and develop a work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ld workshop on large rivers nutrient criteria develop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stigate use of WERF Nutrient Modeling toolbox with possible contractor suppor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EC input ??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4038480"/>
            <a:ext cx="7854840" cy="943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vin Coyne, WVDE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ter Quality Standards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19:13:08Z</dcterms:created>
  <dc:creator>eben</dc:creator>
  <dc:description/>
  <dc:language>en-US</dc:language>
  <cp:lastModifiedBy>jklear</cp:lastModifiedBy>
  <dcterms:modified xsi:type="dcterms:W3CDTF">2013-10-15T15:17:57Z</dcterms:modified>
  <cp:revision>176</cp:revision>
  <dc:subject/>
  <dc:title>“There is no typical Flue Gas Desulfurization system”     - North American Electric Reliability Council , 1991</dc:title>
</cp:coreProperties>
</file>